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C431-DED9-4945-90D4-30E8CE30AF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AA7C-2917-4995-ADD4-3B6516D5C9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92E-220B-41B1-A7F7-A0B83E2A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27D-0944-42F6-8064-F6A0B5E8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8F0-F7E4-42D6-959D-C2AA9198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6AE-E035-44A7-82A9-4F0CF36F5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C885-07D3-47A4-B81E-58EDF14D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5355-151B-4855-8009-13AEAB29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096E-A914-4064-9DF0-EE323501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3299-FE29-4C89-A016-C72B4164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E18D-D10A-41ED-8931-4D8FEA87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FEE1-52C0-4FF1-863F-77F4F9A2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E92C-EDB3-4A7F-84CC-7173F5B7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DC91-77BC-4175-B939-F1424840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A4B3-4B64-499D-AC4E-AEA2021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A542-598D-4D18-8183-7007E085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2154B-AB69-40DB-BB68-9FEC4223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9E7D-428D-4178-82D3-910691C9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AA11-0E8E-4CF0-B580-F99742A8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70F-BD72-4E87-8509-688BA379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6E7-ADCC-4E92-9936-575F2BFF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2B3-3069-4D0B-AD29-4BC32497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E19-427B-43F2-87CD-67BEF94E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1F3-47BF-4986-8E69-74D42C13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225-9FF0-44D3-9860-CBC7467E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4D24-C5A2-4EF8-B258-DF930C86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0113-DDDB-4D6C-982B-396477F4C2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09EF-C3AE-4B8F-8608-1C36CF772F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tic3.depositphotos.com/1000130/201/i/950/depositphotos_2016989-Stop-drug.jpg" TargetMode="External"/><Relationship Id="rId2" Type="http://schemas.openxmlformats.org/officeDocument/2006/relationships/hyperlink" Target="http://cs4452.vk.me/u118551047/128077957/y_34b1d479.jpg" TargetMode="External"/><Relationship Id="rId3" Type="http://schemas.openxmlformats.org/officeDocument/2006/relationships/hyperlink" Target="http://demotiva.ru/i/d/a/7/01435d8de354f7dcbe085a61cada3.jpg" TargetMode="External"/><Relationship Id="rId4" Type="http://schemas.openxmlformats.org/officeDocument/2006/relationships/hyperlink" Target="http://piscovichi.ru/Documents/0glavnaya/56CBBEA517C777A4B786B3BA02C31E41.jpg" TargetMode="External"/><Relationship Id="rId5" Type="http://schemas.openxmlformats.org/officeDocument/2006/relationships/hyperlink" Target="http://bavly.tatarstan.ru/file/454(1).jpg" TargetMode="External"/><Relationship Id="rId6" Type="http://schemas.openxmlformats.org/officeDocument/2006/relationships/hyperlink" Target="http://demotivators.to/media/posters/379/455737_narkotiki-eto-estestvennyij-otbor.jpg" TargetMode="External"/><Relationship Id="rId7" Type="http://schemas.openxmlformats.org/officeDocument/2006/relationships/hyperlink" Target="http://bopt.org/wp-content/uploads/2014/09/otvet2.jpg" TargetMode="External"/><Relationship Id="rId8" Type="http://schemas.openxmlformats.org/officeDocument/2006/relationships/hyperlink" Target="file:///%8C-&#1086;&#1090;-&#1078;&#1080;&#1079;&#1085;&#1080;-&#1072;-&#1090;&#1086;-&#1086;&#1090;-&#1095;&#1077;&#1075;&#1086;-&#1086;&#1090;&#1082;&#1072;&#1079;&#1099;&#1074;&#1072;&#1077;&#1096;&#1100;&#1089;&#1103;..jpg" TargetMode="External"/><Relationship Id="rId9" Type="http://schemas.openxmlformats.org/officeDocument/2006/relationships/hyperlink" Target="http://alco.cursotamandare.g12.br/uploads/posts/2015-12/thumbs/29022213-kakie-preparaty-ispolzuyut-pri-kodirovanii-ot-alkogolizma.jpg" TargetMode="External"/><Relationship Id="rId10" Type="http://schemas.openxmlformats.org/officeDocument/2006/relationships/hyperlink" Target="http://fs.homegate.ru/file/258599" TargetMode="External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otivatory.ru/img/poster/c463a2f33b.jpg" TargetMode="External"/><Relationship Id="rId2" Type="http://schemas.openxmlformats.org/officeDocument/2006/relationships/hyperlink" Target="http://cs988.vk.me/u24514849/129407023/y_2b9195cf.jpg" TargetMode="External"/><Relationship Id="rId3" Type="http://schemas.openxmlformats.org/officeDocument/2006/relationships/hyperlink" Target="http://pwpt.ru/uploads/presentation_screenshots/5e2df3bd2aea4361419ddf10a5c5503a.JPG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569880" y="3989520"/>
            <a:ext cx="2859120" cy="2813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6480" y="203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6633"/>
                </a:solidFill>
                <a:latin typeface="Tahoma"/>
              </a:rPr>
              <a:t>Профилактика наркомании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58320" y="5331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3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Открытый урок по основам безопасности жизнедеятельности в 9 клас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505320" y="52578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2299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-152280" y="182844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Главная опасность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 стать наркоманом кроется в желании (из любопытства, за компанию или по другой причине) 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первый раз попробовать наркотик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57200" y="533520"/>
            <a:ext cx="83059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ts val="3399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6633"/>
                </a:solidFill>
                <a:latin typeface="Arial"/>
              </a:rPr>
              <a:t>Наркоманию легче предупредить, чем излечить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962520" y="1828800"/>
            <a:ext cx="48988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rcRect l="12824" t="0" r="0" b="5354"/>
          <a:stretch/>
        </p:blipFill>
        <p:spPr>
          <a:xfrm>
            <a:off x="6705720" y="1219320"/>
            <a:ext cx="2286000" cy="2249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480" y="3614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Рекомендаци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328572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омните: наркоторговцы хитры и коварн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Сопротивляясь в приёме первого наркотика, вы боретесь за свою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Если же вам навязывают попробовать наркотики, вы должны любым способом отказаться. Статья 230 УК РФ: «Склонение к потреблению наркотических средств наказывается лишением свободы на срок от двух до пяти лет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О тех, кто к вам пристаёт с предложением попробовать наркотик, необходимо рассказать родителям, преподавателю, сообщить правоохранительным органа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80880" y="1133640"/>
            <a:ext cx="6553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Прежде чем купить и попробовать наркотик, подумайте: а зачем вам это надо? Вспомните, к чему может привести первая проба наркотика в вашей жизн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Допустим, в силу обстоятельств в ваши руки попал-таки наркотик. Будьте мужественными и твёрдыми, не поленитесь и донесите его до унитаз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58600" y="304560"/>
            <a:ext cx="556236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Домашнее задание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03788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§6.6, стр. 128-134, ответить на вопрос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творческое задание: презентация, сообщ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3840" y="4648320"/>
            <a:ext cx="8610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Жизнь и коротка, и прекрасна. Прожить её надо в полную силу своих человеческих возможностей – духовных и физических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Arial"/>
              </a:rPr>
              <a:t>Информационные источник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17680" y="102708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static3.depositphotos.com/1000130/201/i/950/depositphotos_2016989-Stop-dru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4452.vk.me/u118551047/128077957/y_34b1d47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demotiva.ru/i/d/a/7/01435d8de354f7dcbe085a61cada3.jpg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piscovichi.ru/Documents/0glavnaya/56CBBEA517C777A4B786B3BA02C31E4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5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http://bavly.tatarstan.ru/file/454(1)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6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http://demotivators.to/media/posters/379/455737_narkotiki-eto-estestvennyij-otbor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7 картинка -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bopt.org/wp-content/uploads/2014/09/otvet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8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best-dem.ru/wp-content/uploads/2011/05/%D0%92%D0%AB%D0%91%D0%9E%D0%A0-%D0%98%D0%BD%D0%BE%D0%B3%D0%B4%D0%B0-%D0%B2%D0%B0%D0%B6%D0%BD%D0%B5%D0%B5-%D0%BD%D0%B5-%D1%82%D0%BE-%D1%87%D1%82%D0%BE-%D1%82%D1%8B-%D0%B1%D0%B5%D1%80%D0%B5%D1%88%D1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%8C-%D0%BE%D1%82-%D0%B6%D0%B8%D0%B7%D0%BD%D0%B8-%D0%B0-%D1%82%D0%BE-%D0%BE%D1%82-%D1%87%D0%B5%D0%B3%D0%BE-%D0%BE%D1%82%D0%BA%D0%B0%D0%B7%D1%8B%D0%B2%D0%B0%D0%B5%D1%88%D1%8C%D1%81%D1%8F.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9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http://alco.cursotamandare.g12.br/uploads/posts/2015-12/thumbs/29022213-kakie-preparaty-ispolzuyut-pri-kodirovanii-ot-alkogolizm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0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fs.homegate.ru/file/2585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69880" y="4287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1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motivatory.ru/img/poster/c463a2f33b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2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cs988.vk.me/u24514849/129407023/y_2b9195c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3 картинка - </a:t>
            </a:r>
            <a:r>
              <a:rPr b="0" lang="en-US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pwpt.ru/uploads/presentation_screenshots/5e2df3bd2aea4361419ddf10a5c5503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4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demotivators.to/media/posters/4085/579548_odin-ukol-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15 картинка - </a:t>
            </a:r>
            <a:r>
              <a:rPr b="0" lang="en-US" sz="1400" spc="-1" strike="noStrike">
                <a:solidFill>
                  <a:srgbClr val="006633"/>
                </a:solidFill>
                <a:latin typeface="Arial"/>
              </a:rPr>
              <a:t>http://s017.radikal.ru/i404/1110/97/72c3218791a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Основы безопасности жизнедеятельности. 9 класс: учеб. для общеобразоват. учреждений/ А.Т. Смирнов, Б.О. Хренников; под общ. ред. А.Т. Смирнова; Рос. акад. наук, Рос. акад. образования, изд-во «Просвещение». – 4-е изд. – М.: Просвещение,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, К. Бохонова, Е. Прянишникова. «Школа – территория без наркотиков». Журнал ОБЖ, февраль 2003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Н. Волжская. «О наркотиках с разных сторон». Журнал ОБЖ, март 2002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zanimatika.narod.ru/Vospitanie_etiket.htm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тиховоспитание: этикет де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frazochka.ru/authors/3295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Афориз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www.xliby.ru/zdorove/put_v_stranu_zdorovja/p28.php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Родители должны зн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infourok.ru/referat-na-temu-zozh-550044.html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Чуракова Е.. Реферат «Здоровый образ жизн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33"/>
                </a:solidFill>
                <a:uFillTx/>
                <a:latin typeface="Arial"/>
              </a:rPr>
              <a:t>http://porgi.ru/scenki-scenarii/scenarijj-net-narkotikam/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– Сценарий антинаркотического конкурса «Мы вместе» - нет наркотика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1297025491_1290418793_538049_pejkolisbuhaj-i-nyuhaj"/>
          <p:cNvPicPr/>
          <p:nvPr/>
        </p:nvPicPr>
        <p:blipFill>
          <a:blip r:embed="rId1"/>
          <a:stretch/>
        </p:blipFill>
        <p:spPr>
          <a:xfrm>
            <a:off x="4648320" y="685800"/>
            <a:ext cx="42670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0" name="AutoShape 7">
            <a:hlinkClick r:id="" action="ppaction://hlinkshowjump?jump=previousslide"/>
          </p:cNvPr>
          <p:cNvSpPr/>
          <p:nvPr/>
        </p:nvSpPr>
        <p:spPr>
          <a:xfrm>
            <a:off x="7772400" y="57913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86080" cy="318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304920" y="571680"/>
            <a:ext cx="4267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6" descr="VQV3dk8ZINQ"/>
          <p:cNvPicPr/>
          <p:nvPr/>
        </p:nvPicPr>
        <p:blipFill>
          <a:blip r:embed="rId1"/>
          <a:stretch/>
        </p:blipFill>
        <p:spPr>
          <a:xfrm>
            <a:off x="6248520" y="380880"/>
            <a:ext cx="2531880" cy="3657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AutoShape 7">
            <a:hlinkClick r:id="" action="ppaction://hlinkshowjump?jump=previousslide"/>
          </p:cNvPr>
          <p:cNvSpPr/>
          <p:nvPr/>
        </p:nvSpPr>
        <p:spPr>
          <a:xfrm>
            <a:off x="792468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504720" y="1866960"/>
            <a:ext cx="548640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1552680" y="298440"/>
            <a:ext cx="33242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579548_odin-ukol-"/>
          <p:cNvPicPr/>
          <p:nvPr/>
        </p:nvPicPr>
        <p:blipFill>
          <a:blip r:embed="rId1"/>
          <a:stretch/>
        </p:blipFill>
        <p:spPr>
          <a:xfrm>
            <a:off x="5722920" y="409680"/>
            <a:ext cx="3071880" cy="4876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AutoShape 6">
            <a:hlinkClick r:id="" action="ppaction://hlinkshowjump?jump=previousslide"/>
          </p:cNvPr>
          <p:cNvSpPr/>
          <p:nvPr/>
        </p:nvSpPr>
        <p:spPr>
          <a:xfrm>
            <a:off x="754380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33520" y="1839960"/>
            <a:ext cx="4724280" cy="41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1343160" y="276120"/>
            <a:ext cx="3238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15228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частье, радость, любовь, доверие. Зач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360360" y="43020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«Будущее – в настоящем,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но будущее – и в прошл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457200" y="11984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Это мы создаём его.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2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006633"/>
                </a:solidFill>
                <a:latin typeface="Arial"/>
              </a:rPr>
              <a:t>Если оно плохо, в этом наша вина».</a:t>
            </a: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ts val="22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Анатоль Фран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762120" y="2292480"/>
            <a:ext cx="7696080" cy="374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23560"/>
            <a:ext cx="70102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33"/>
                </a:solidFill>
                <a:uFillTx/>
                <a:latin typeface="Arial"/>
              </a:rPr>
              <a:t>Проверка домашнего задания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2760" y="811080"/>
            <a:ext cx="8184960" cy="57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1. В каком году мировое сообщество предприняло первую попытку предотвращения распространения наркотиков по планет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1901 году; б) в 1906 году; в) в 1909 году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;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 г) в 1911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2. Первая Конвенция о наркотиках была приня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в Гааге;</a:t>
            </a:r>
            <a:r>
              <a:rPr b="0" i="1" lang="ru-RU" sz="14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в Женеве; в) в Нью-Йор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3. Какой документ имеет статус Федерального зако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«Комплексные меры противодействия злоупотреблению наркотиками и их незаконному обороту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«О наркотических средствах и психотропных веществах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«О мерах по усилению противодействия незаконному обороту наркотических средств, психотропных веществ и злоупотреблению им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4. За какие действия, связанные с оборотом наркотических и психотропных веществ, Уголовный кодекс РФ предусматривает наказан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за незаконное изготовление, приобретение, хранение, пересылку наркотических средств или психотропных вещест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за хищение либо вымогательство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за склонение к потреблению наркотических средств или психотропных веще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за все перечислен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5. Из приведённых ниже утверждений выберите единственно истинно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а) наркотики бывают «серьёзные» и «несерьёзные», легк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б) наркотики делают человека свободны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в) наркотики разрушают личность челове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6633"/>
                </a:solidFill>
                <a:latin typeface="Arial"/>
              </a:rPr>
              <a:t>г) наркотики помогают решать жизненные пробле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117440" y="1600200"/>
          <a:ext cx="3200400" cy="38606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386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Ответ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Г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36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– 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54760" y="1600200"/>
          <a:ext cx="3429000" cy="388620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388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u="sng">
                          <a:solidFill>
                            <a:srgbClr val="006633"/>
                          </a:solidFill>
                          <a:uFillTx/>
                          <a:latin typeface="Arial"/>
                        </a:rPr>
                        <a:t>Критерии:</a:t>
                      </a:r>
                      <a:r>
                        <a:rPr b="0" lang="ru-RU" sz="2800" spc="-1" strike="noStrike">
                          <a:solidFill>
                            <a:srgbClr val="006633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 баллов</a:t>
                      </a:r>
                      <a:r>
                        <a:rPr b="0" lang="ru-RU" sz="26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– «отличн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балла</a:t>
                      </a:r>
                      <a:r>
                        <a:rPr b="0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–«хорошо»;</a:t>
                      </a:r>
                      <a:r>
                        <a:rPr b="0" lang="ru-RU" sz="2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 и меньше</a:t>
                      </a:r>
                      <a:r>
                        <a:rPr b="0" lang="ru-RU" sz="2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 – «Вам необходимо ещё раз проработать материал».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632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"/>
              </a:rPr>
              <a:t>Самооценка: «Государственная политика противодействия наркотизму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6048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Каждый правильный ответ – 1 ба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130040"/>
            <a:ext cx="3733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зм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– это комплексная социальная система, в которо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хорошо отлажен незаконный оборот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сформирована система вовлечения всё новых групп молодёжи в число потребителей наркотиков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214880" y="4595760"/>
            <a:ext cx="4800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организованы преступные группировки, защищающие наркобизнес и наркомаф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343400" cy="39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3720" y="420480"/>
            <a:ext cx="69339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29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Результаты проведённого анкетирования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6633"/>
                </a:solidFill>
                <a:latin typeface="Arial"/>
              </a:rPr>
              <a:t>Вывод</a:t>
            </a:r>
            <a:r>
              <a:rPr b="0" lang="ru-RU" sz="2200" spc="-1" strike="noStrike">
                <a:solidFill>
                  <a:srgbClr val="006633"/>
                </a:solidFill>
                <a:latin typeface="Arial"/>
              </a:rPr>
              <a:t>: с определённой вероятностью «наркогенный риск» существует для 23% обучающихся старшего звена (9-11 кл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52280" y="1327320"/>
          <a:ext cx="8763120" cy="42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27320"/>
                    <a:ext cx="8763120" cy="42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21932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Тема урока: </a:t>
            </a:r>
            <a:br>
              <a:rPr sz="3800"/>
            </a:br>
            <a:r>
              <a:rPr b="0" lang="ru-RU" sz="4400" spc="-1" strike="noStrike">
                <a:solidFill>
                  <a:srgbClr val="006633"/>
                </a:solidFill>
                <a:latin typeface="Arial"/>
              </a:rPr>
              <a:t>«Профилактика наркомании»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229600" cy="20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Цель: </a:t>
            </a: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изучить и проанализировать информацию, которая поможет сформировать отрицательное отношение к потреблению наркот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029200" y="4467240"/>
            <a:ext cx="35812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63400" y="344520"/>
            <a:ext cx="59436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Arial"/>
              </a:rPr>
              <a:t>Проблемный вопрос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2304720"/>
            <a:ext cx="4343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6633"/>
                </a:solidFill>
                <a:latin typeface="Arial"/>
              </a:rPr>
              <a:t>Любую болезнь легче предупредить, чем заниматься её лечением. Относится ли это к наркома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4813200" y="1066680"/>
            <a:ext cx="3905280" cy="495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18288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28200" y="1190520"/>
            <a:ext cx="80773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1" action="ppaction://hlinksldjump"/>
              </a:rPr>
              <a:t>Утверждение 1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– это социальное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заболевание, практически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еизлечимое,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которому человек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вергает себя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добровольно, начав употреблять 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тик.</a:t>
            </a: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2" action="ppaction://hlinksldjump"/>
              </a:rPr>
              <a:t>Утверждение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Подавляющая часть наркоманов не доживает до 30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2600" spc="-1" strike="noStrike" u="sng">
                <a:solidFill>
                  <a:srgbClr val="996600"/>
                </a:solidFill>
                <a:uFillTx/>
                <a:latin typeface="Arial"/>
                <a:hlinkClick r:id="rId3" action="ppaction://hlinksldjump"/>
              </a:rPr>
              <a:t>Утверждение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49"/>
              </a:spcBef>
              <a:buClr>
                <a:srgbClr val="006633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6633"/>
                </a:solidFill>
                <a:latin typeface="Arial"/>
              </a:rPr>
              <a:t>Наркомания начинает формироваться с первой проб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1600200" cy="11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12:33:10Z</dcterms:created>
  <dc:creator>ломовы</dc:creator>
  <dc:description/>
  <dc:language>en-US</dc:language>
  <cp:lastModifiedBy>admin</cp:lastModifiedBy>
  <dcterms:modified xsi:type="dcterms:W3CDTF">2020-03-11T06:59:28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